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1608-3A48-4556-9FCE-9BBA93EC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827424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4159080"/>
            <a:ext cx="827424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6E12-2661-43A6-99C5-ADEB1FC6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415908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080" y="415908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CAC3-6970-4CBD-9EAF-BB0DCEC2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7560" y="198396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5120" y="198396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415908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7560" y="415908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5120" y="415908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8700-EA9C-41DD-B405-CA6BDDD8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459F-8D5A-4065-9730-517E2DA6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00000" y="1983960"/>
            <a:ext cx="827424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65D6-E90F-4D85-BA91-53281160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827424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273C-4DB4-415E-84AC-9B714152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4215-84D5-4001-8F20-C8F161CA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B5D7-F2D9-4BBD-9D94-BFFEC812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0720" y="554040"/>
            <a:ext cx="8634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A52B-E904-4D65-A04D-54429A0B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00000" y="415908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F88D-DF7E-4DB6-A5D5-5790D281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1983960"/>
            <a:ext cx="827424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E613-DB8F-4784-BACA-909DFC46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0080" y="415908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B35F-DAC1-40CA-945F-7E81A90F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00000" y="4159080"/>
            <a:ext cx="827424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FD5E-7597-4C1D-A0E1-3D7714C1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827424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00000" y="4159080"/>
            <a:ext cx="827424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0960-B3C5-4640-B7E2-81F3F794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00000" y="415908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0080" y="415908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EE1B-6CA6-4871-9AD9-EB8B9693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7560" y="198396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5120" y="198396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00000" y="415908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7560" y="415908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5120" y="415908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9A08-9104-4AB9-914B-C25A489B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AACDC-894B-4AFD-B4A8-42F0B744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00000" y="1983960"/>
            <a:ext cx="827424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84043-9443-4501-896E-98E997DA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827424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B2FE0-0D8A-4DF5-B142-BDC92733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3AF48-C539-4A15-ABDA-C74892AE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1D4BA-BD87-4D71-9A4F-E0C43172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827424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6FB-49E6-4709-B08D-34C6F39C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20720" y="554040"/>
            <a:ext cx="8634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055C3-8A10-4BD7-A633-155CCFDD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00000" y="415908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78019-965B-4D9B-BBD5-3580599E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0080" y="415908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09ABC-498A-41A5-BC93-2BB4AD3A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00000" y="4159080"/>
            <a:ext cx="827424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C4B22-0416-486A-8390-466A088B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827424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00000" y="4159080"/>
            <a:ext cx="827424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493BB-BA12-4AFA-8B2A-0B1C3F3D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00000" y="415908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0080" y="415908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1A240-956A-4CF8-8843-B5EC94E4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97560" y="198396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95120" y="198396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00000" y="415908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97560" y="415908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95120" y="415908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65A04-F03E-4F81-87CD-BBD01D67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8BEA2-8214-4502-B1FB-E91D49CF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00000" y="1983960"/>
            <a:ext cx="827424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005B2-7DF1-435B-8946-921051AC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827424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EC7F5-5558-4EE3-ACC0-5527564B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B112-2CA5-4D64-819A-61E4AA5E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FDBE8-B651-4789-81AB-0ED78CBA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6ED8C-D10A-417D-9253-5F818CEB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0720" y="554040"/>
            <a:ext cx="8634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161A8-70A7-4C74-92F5-DC7EE773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00000" y="415908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8115B-D16A-4B81-9000-46144586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0080" y="415908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1ACD3-42C6-4105-96D2-E683BD02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00000" y="4159080"/>
            <a:ext cx="827424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20BDC-3FFD-4495-8A1F-8DAFC263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827424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00000" y="4159080"/>
            <a:ext cx="827424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290F7-FC15-478F-B930-DC0B7659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415908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40080" y="415908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45D08-629C-4DA1-844D-D2B10524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97560" y="198396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95120" y="198396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00000" y="415908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97560" y="415908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95120" y="415908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E5D97-5848-4334-970C-C5848689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340C-BB6B-4552-8E32-1F3F5625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554040"/>
            <a:ext cx="8634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E8DF-8080-4D30-9887-39F37AAD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415908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D2CD-C5F1-46F3-BC41-F7A995D3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080" y="415908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C9D7-1783-42A1-84AB-FDE19AFD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4159080"/>
            <a:ext cx="827424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9033-77DE-4BA9-A3BE-52115A58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PH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PH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PH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38876-7E44-41EA-B6F4-49765311B0E1}" type="slidenum"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49400"/>
            <a:ext cx="884700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640" y="631836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66640" y="6346800"/>
            <a:ext cx="31878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31000" y="634680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81AC5-B9AC-4EC7-804F-A393F6281BD9}" type="slidenum">
              <a: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F5C62-3F96-492B-AB07-B095F50B5A0D}" type="slidenum">
              <a: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00000" y="1983960"/>
            <a:ext cx="827424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12720" y="645444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7720" y="645444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83000" y="645444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6E3D0-EE81-40BB-B5D0-04A8BB77BA52}" type="slidenum">
              <a: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20720" y="728640"/>
            <a:ext cx="845964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4000" spc="-1" strike="noStrike">
                <a:solidFill>
                  <a:srgbClr val="ffff00"/>
                </a:solidFill>
                <a:latin typeface="Arial"/>
                <a:ea typeface="Arial Unicode MS"/>
              </a:rPr>
              <a:t>CAPTURING THE STAGES OF LI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Marianne Angelie Ma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Christine Mae N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360000" y="1619280"/>
            <a:ext cx="4319640" cy="555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The unit will be about the Life Cycle. In order for the pupils to grasp the unit, a project will be given to them integrating the use of a camera in capturing the Life Cycle of a Butterfly. A Life Cycle is the process or stages of events of an organism in acquiring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96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4400" spc="-1" strike="noStrike">
                <a:solidFill>
                  <a:srgbClr val="ffff00"/>
                </a:solidFill>
                <a:latin typeface="Arial"/>
              </a:rPr>
              <a:t>Unit Summary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96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4400" spc="-1" strike="noStrike">
                <a:solidFill>
                  <a:srgbClr val="ffff00"/>
                </a:solidFill>
                <a:latin typeface="Arial"/>
              </a:rPr>
              <a:t>Curriculum Framing Question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2518920"/>
            <a:ext cx="5580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3200" spc="-1" strike="noStrike">
                <a:solidFill>
                  <a:srgbClr val="ffff00"/>
                </a:solidFill>
                <a:latin typeface="Arial"/>
              </a:rPr>
              <a:t>Essential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ffff00"/>
                </a:solidFill>
                <a:latin typeface="Arial"/>
              </a:rPr>
              <a:t>In the absence of one stage, do we still call it a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3200" spc="-1" strike="noStrike">
                <a:solidFill>
                  <a:srgbClr val="ffff00"/>
                </a:solidFill>
                <a:latin typeface="Arial"/>
              </a:rPr>
              <a:t>Unit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ffff00"/>
                </a:solidFill>
                <a:latin typeface="Arial"/>
              </a:rPr>
              <a:t>What is a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ffff00"/>
                </a:solidFill>
                <a:latin typeface="Arial"/>
              </a:rPr>
              <a:t>How is it being d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79280" y="610920"/>
            <a:ext cx="4680000" cy="622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-33660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3200" spc="-1" strike="noStrike">
                <a:solidFill>
                  <a:srgbClr val="ffff00"/>
                </a:solidFill>
                <a:latin typeface="Arial"/>
              </a:rPr>
              <a:t>Content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ffff00"/>
                </a:solidFill>
                <a:latin typeface="Arial"/>
              </a:rPr>
              <a:t>What are the four stages of the life cycle of a butterf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ffff00"/>
                </a:solidFill>
                <a:latin typeface="Arial"/>
              </a:rPr>
              <a:t>What are the different parts of a caterpill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ffff00"/>
                </a:solidFill>
                <a:latin typeface="Arial"/>
              </a:rPr>
              <a:t>What needs must be met for a butterfly completes its life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ffff00"/>
                </a:solidFill>
                <a:latin typeface="Arial"/>
              </a:rPr>
              <a:t>What are the different parts of a butterfly and why are they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4400" spc="-1" strike="noStrike">
                <a:solidFill>
                  <a:srgbClr val="ffff00"/>
                </a:solidFill>
                <a:latin typeface="Arial"/>
              </a:rPr>
              <a:t>Capturing the Butterfly Cycl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43196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ffff00"/>
                </a:solidFill>
                <a:latin typeface="Arial"/>
              </a:rPr>
              <a:t>This project will help the pupils develop skills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ffff00"/>
                </a:solidFill>
                <a:latin typeface="Arial"/>
              </a:rPr>
              <a:t>Collaboration with p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ffff00"/>
                </a:solidFill>
                <a:latin typeface="Arial"/>
              </a:rPr>
              <a:t>Cre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ffff00"/>
                </a:solidFill>
                <a:latin typeface="Arial"/>
              </a:rPr>
              <a:t>Obser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3:05:35Z</dcterms:created>
  <dc:creator/>
  <dc:description/>
  <dc:language>en-US</dc:language>
  <cp:lastModifiedBy/>
  <cp:revision>1</cp:revision>
  <dc:subject/>
  <dc:title/>
</cp:coreProperties>
</file>